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8C7-EC28-4A5A-8BEE-130EAD97D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1FAD-6F36-457C-93E7-8EF81267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1FA-853E-47DB-8DED-CC94817C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88F-9B67-4D19-A6EC-D897A8F5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373-3798-4F55-B0EF-C8B8128D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23D-F9F7-40AD-8398-AA147F84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6C2-F744-460C-A65F-ABEA3F47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46D-A4B1-4802-A7B0-2B3E1348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5F7-12FE-4B79-AE04-906599FC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5A2-2464-4639-BCA7-4A1B07A9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76D-8024-4159-8607-7ED2AE9E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72F-78E4-4414-94C5-7F4FC81C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A69-2293-4B32-BBF3-CF032B5B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63E-75BA-44D3-8D7F-8C71E1BF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546-34FE-4A80-B3DF-D90220B44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4450-19AB-4673-8B68-9115488A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065-E591-49A7-A9B2-979C9007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444-8514-4809-B2A9-F3494B42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604-5EFF-473C-9B7E-230C5B86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EE8-7BC3-4838-AC41-94BEC509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BB8-2D00-44C8-94DE-D5F643F4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77E-20D0-4A6E-8CF2-8226B01E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6E8-98EE-4E59-BA4C-466E3197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F0BB-3C74-4B00-B26C-87DA365C1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574-9B85-45B5-B657-F1C36F50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F7D-42AE-456F-9494-6BBA6BBF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pha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sister_chromatid.wav" TargetMode="External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centromere.wav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metaphase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aphas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elophas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ncer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optosis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stem_cell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ll_cycl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terpha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mitosis.wav" TargetMode="External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cytokinesis.wav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econd Stage of Interphase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85880" y="2077920"/>
            <a:ext cx="7900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copies its DNA in preparation for cell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85880" y="1311120"/>
            <a:ext cx="8434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Third Stage of Interphase, G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1"/>
          <p:cNvSpPr/>
          <p:nvPr/>
        </p:nvSpPr>
        <p:spPr>
          <a:xfrm>
            <a:off x="785880" y="2081160"/>
            <a:ext cx="8510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prepares for the division of its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tages of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85880" y="202104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85920" y="2728800"/>
            <a:ext cx="7095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285920" y="3438360"/>
            <a:ext cx="7095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ister 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ttached at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285920" y="4624560"/>
            <a:ext cx="7326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pindle fibers 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560" y="21337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85880" y="1919160"/>
            <a:ext cx="36338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clear envelope seems to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785880" y="3703680"/>
            <a:ext cx="3862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ch 9 im 12"/>
          <p:cNvPicPr/>
          <p:nvPr/>
        </p:nvPicPr>
        <p:blipFill>
          <a:blip r:embed="rId1"/>
          <a:stretch/>
        </p:blipFill>
        <p:spPr>
          <a:xfrm>
            <a:off x="4834080" y="2138400"/>
            <a:ext cx="5105160" cy="2978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8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85880" y="2014560"/>
            <a:ext cx="416700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r chromatids are pulled along the spindle apparatus toward the center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85880" y="4678200"/>
            <a:ext cx="4243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ch 9 im 13"/>
          <p:cNvPicPr/>
          <p:nvPr/>
        </p:nvPicPr>
        <p:blipFill>
          <a:blip r:embed="rId1"/>
          <a:stretch/>
        </p:blipFill>
        <p:spPr>
          <a:xfrm>
            <a:off x="5243400" y="2109960"/>
            <a:ext cx="4573800" cy="3079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85880" y="200988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icrotubules of the spindle apparatus begin to shor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85880" y="32004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85880" y="3895560"/>
            <a:ext cx="81280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200988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85880" y="320040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wo new nuclear membranes begin to form and the nucleoli re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85880" y="438300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ndle apparatus disassem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ytoki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85880" y="200988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animal cells, microfilaments constrict, or pinch, 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785880" y="320040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n plant cells, a new structure, called a cell plate, 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785880" y="1311120"/>
            <a:ext cx="8434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Normal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85880" y="1963800"/>
            <a:ext cx="416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cyclin/CDK combinations signal other activities, includ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ch 9 im 18"/>
          <p:cNvPicPr/>
          <p:nvPr/>
        </p:nvPicPr>
        <p:blipFill>
          <a:blip r:embed="rId1"/>
          <a:stretch/>
        </p:blipFill>
        <p:spPr>
          <a:xfrm>
            <a:off x="5257800" y="2082960"/>
            <a:ext cx="4614840" cy="3127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Quality Control Check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85880" y="2021040"/>
            <a:ext cx="8586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cycle h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built-in checkpoi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monitor the cycle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top it if something goe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85880" y="370512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indle checkpoints also have been identified in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1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Cellular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287440" y="2603520"/>
            <a:ext cx="805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293920" y="3254400"/>
            <a:ext cx="73994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289240" y="3881520"/>
            <a:ext cx="7397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bnormal Cell Cycle: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85880" y="2021040"/>
            <a:ext cx="4471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ch 9 im 20"/>
          <p:cNvPicPr/>
          <p:nvPr/>
        </p:nvPicPr>
        <p:blipFill>
          <a:blip r:embed="rId1"/>
          <a:stretch/>
        </p:blipFill>
        <p:spPr>
          <a:xfrm>
            <a:off x="5553000" y="2112840"/>
            <a:ext cx="4343400" cy="28800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3"/>
          <p:cNvGrpSpPr/>
          <p:nvPr/>
        </p:nvGrpSpPr>
        <p:grpSpPr>
          <a:xfrm>
            <a:off x="785880" y="3699000"/>
            <a:ext cx="8772480" cy="2059200"/>
            <a:chOff x="785880" y="3699000"/>
            <a:chExt cx="8772480" cy="2059200"/>
          </a:xfrm>
        </p:grpSpPr>
        <p:sp>
          <p:nvSpPr>
            <p:cNvPr id="289" name="Text Box 7"/>
            <p:cNvSpPr/>
            <p:nvPr/>
          </p:nvSpPr>
          <p:spPr>
            <a:xfrm>
              <a:off x="785880" y="3699000"/>
              <a:ext cx="4471920" cy="15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marL="254160" indent="-254160">
                <a:buClr>
                  <a:srgbClr val="a50021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r cells can kill an organism by crowding out norm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1047600" y="5168880"/>
              <a:ext cx="851076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lls, resulting in the loss of tissue func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4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2040" y="304812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85880" y="2021040"/>
            <a:ext cx="85104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nges that occur in the regulation of cell growth and division of cancer cell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ue to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785880" y="3708360"/>
            <a:ext cx="8891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pop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85880" y="2021040"/>
            <a:ext cx="8510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85880" y="272880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s going through apoptosis actually shrink and shrivel in a controlle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85880" y="13003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85880" y="2200320"/>
            <a:ext cx="4471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when under the righ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ch 9 im 23"/>
          <p:cNvPicPr/>
          <p:nvPr/>
        </p:nvPicPr>
        <p:blipFill>
          <a:blip r:embed="rId1"/>
          <a:stretch/>
        </p:blipFill>
        <p:spPr>
          <a:xfrm>
            <a:off x="5181480" y="2117880"/>
            <a:ext cx="4624560" cy="3016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mbryonic 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85880" y="2021040"/>
            <a:ext cx="86630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fertilization, the resulting mass of cells divides repeatedly until there are about      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50 cells.  These cells have not become speci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6" descr="Vlab_100"/>
          <p:cNvPicPr/>
          <p:nvPr/>
        </p:nvPicPr>
        <p:blipFill>
          <a:blip r:embed="rId1"/>
          <a:stretch/>
        </p:blipFill>
        <p:spPr>
          <a:xfrm>
            <a:off x="4114800" y="5105520"/>
            <a:ext cx="4724280" cy="13478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5943600" y="5334120"/>
            <a:ext cx="2773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Cellular 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dult 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85880" y="2021040"/>
            <a:ext cx="88153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in various tissues in the body and might be used to maintain and repair the same kind of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785880" y="3708360"/>
            <a:ext cx="86630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controversial because the adult stem cells can be obtained with the consent of their d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Ratio of Surface Area to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9" descr="ch 9 im 1"/>
          <p:cNvPicPr/>
          <p:nvPr/>
        </p:nvPicPr>
        <p:blipFill>
          <a:blip r:embed="rId1"/>
          <a:stretch/>
        </p:blipFill>
        <p:spPr>
          <a:xfrm>
            <a:off x="1442880" y="1978200"/>
            <a:ext cx="764388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8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90560" y="1647720"/>
            <a:ext cx="80485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cell grows, i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90560" y="2946240"/>
            <a:ext cx="8810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might have difficulty supplying nutrients and expelling enough wast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ransport of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90560" y="202104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tances move by diffusion or by motor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90560" y="3214800"/>
            <a:ext cx="7743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usion over large distances is slow and in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0560" y="4419720"/>
            <a:ext cx="8277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cells maintain more efficient transport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ellular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90560" y="202104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ed for signaling proteins to move throughout the cell also limits cell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90560" y="321480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affects the ability of the cell              to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90560" y="202104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ell division prevents the cell from becoming too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790560" y="321480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also is the way the cell reproduces so that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row and heal certain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90560" y="4410000"/>
            <a:ext cx="8582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called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029200"/>
            <a:ext cx="4129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785880" y="131112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Inter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tage during which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90560" y="2995560"/>
            <a:ext cx="8505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i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tage of the cell cycle during which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85880" y="467028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ytokinesis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method by which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3623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7320" y="525780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tages of I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85880" y="1919160"/>
            <a:ext cx="8434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stage of interphase,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85920" y="252396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is growing, carrying out normal cell functions, and preparing to replicate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2-18T23:36:59Z</dcterms:modified>
  <cp:revision>535</cp:revision>
  <dc:subject/>
  <dc:title>Glencoe Biology</dc:title>
</cp:coreProperties>
</file>